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429-16B0-412E-9E87-FFADD0D7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E27-0A48-4234-B358-C1F3FC78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142-1492-47E9-A383-73625EB4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4BF-DDDC-49A6-833B-1495C444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CB2-7397-40F5-A59B-4210CEE4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14B-E794-4169-B03F-59AF190A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E2343-B655-446F-B760-5493DE81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02158-E0CD-4E57-9EC6-BC24625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C051E-1A48-4702-B775-F7033000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22F3-1AB8-4892-81A5-5C8EDD8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F7C1-7622-4822-865E-9D64C2D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4C17F-F983-4EF7-9FED-901F3A73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1E617-8597-4785-89C4-45D68C0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7B5-63AD-40D9-B9FA-23B16C92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9115-995C-46C6-854C-7056DC3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5FAD5-B83B-4D6D-A1A6-C12C643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FFA9A-DD1D-4478-B794-CAFECED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EC631-9490-4763-9EC7-DABB5BF1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53B92-DBB2-4F5D-9789-060AF6CE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2E6C7-BEEB-460D-A488-EB78DCC9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B39B1-0BE6-440F-8320-3B8E4886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DB4DB-4D4D-428C-BC22-5736BC22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A1211-B33F-40A2-AA29-73B40C0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71835-7655-4DFA-93D0-8C3207E5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CFF-3A9B-4238-957D-A6491AF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6BC6A-642A-4E79-BC13-2EF554B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BAAB3-0E2E-4234-BCDD-B236D17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4A057-F2AE-45C5-B698-D3F12BB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F2221-B334-4DA7-97BA-3B350D5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50907-4F0E-4446-B3C9-E1145D8B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4B33D-1E1F-4003-8C30-7EA8555B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135D8-9CBB-4277-B6A4-A29EA25F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DD9E7-FB78-4082-B847-1534B19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7DFCB-081C-49E6-9435-BFB868A7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47961-56C9-44F4-B25F-63D47DF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C20-8569-45F3-8DD1-3D0FFF7B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FBBF1-168F-4E33-943F-CB765BFF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99FC5-EED0-494E-B2C5-1B8E6E3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FA9B6-399D-4DC1-96CC-3679F9DF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ABD20-8CA7-45E1-84AD-F652642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263BE-E6AC-4F5E-896B-C371DBA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A8F23-6BF7-4EE3-855A-06E55A1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57DEC-DA01-44B6-8997-6A5544D9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B2014-DB0E-4614-896D-5A60D0BC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530A4-59F1-4EDE-AA94-FC56B5B0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D31-7B63-4EBD-88C9-5B6C980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479-3DAD-4F84-8B62-3D1796E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1AB-92E1-45E4-8BFC-C91C7C0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596-091E-4797-BFCB-5E4E13F5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F1F-CBAF-43F4-BBD6-E0C6E856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402-A94B-4946-9B65-EEAA50E38B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F1E-8C68-4C50-97E1-454766B521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3C09-B0BD-464B-ADBF-D6A3E0D52D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A828-1A18-4598-8DBB-5B875E5BC9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857840" cy="3311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 39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oup Charl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ya Chetty, Scott Morgan, Brian Mottel, Daniyal Qamar, Sukhjinder Sing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entor: Dennis O’ Bri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r. Jeffery Per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Flow Sheet (cont.)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219" name="Picture 3" descr="C:\Users\pd\Desktop\flow.jpg"/>
          <p:cNvPicPr/>
          <p:nvPr/>
        </p:nvPicPr>
        <p:blipFill>
          <a:blip r:embed="rId1"/>
          <a:stretch/>
        </p:blipFill>
        <p:spPr>
          <a:xfrm>
            <a:off x="152280" y="1405080"/>
            <a:ext cx="86965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Energy Sinks &amp; Load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77436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Equipment Sizing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685800" y="1447920"/>
            <a:ext cx="7848720" cy="62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ctor size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HSV = volume feed/volume of reacto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lume of reactor with 3000 GHSV = 43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an Residence time = 1.19 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sh Drum Size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max = k[(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 ρ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/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 ρ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^0.5 = 1.4 ft/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 for 600 psi = 0.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l flow = 2.86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Volume calculated = 3500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at Exchange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=Q/U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U value of 250 BTU/F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, an average for evaporators and heater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= 6681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drawingml/2006/table">
            <a:tbl>
              <a:tblPr/>
              <a:tblGrid>
                <a:gridCol w="1674720"/>
                <a:gridCol w="2295720"/>
                <a:gridCol w="1379520"/>
                <a:gridCol w="2168280"/>
                <a:gridCol w="1625760"/>
              </a:tblGrid>
              <a:tr h="6426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xed 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ble 1.1: Cost of specific units in the plan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t 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 Cost / un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. of Uni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Co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parato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SHV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sh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illation t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1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illation t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95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95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L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li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8,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08,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losion proof chemical pu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0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M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losion proof chemical pu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at excha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X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at excha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4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4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TCO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1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,1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0" y="597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6553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380880"/>
          <a:ext cx="9144000" cy="6208920"/>
        </p:xfrm>
        <a:graphic>
          <a:graphicData uri="http://schemas.openxmlformats.org/drawingml/2006/table">
            <a:tbl>
              <a:tblPr/>
              <a:tblGrid>
                <a:gridCol w="1671480"/>
                <a:gridCol w="2095560"/>
                <a:gridCol w="1575000"/>
                <a:gridCol w="2174760"/>
                <a:gridCol w="1627200"/>
              </a:tblGrid>
              <a:tr h="44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bo expa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BCH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bo expa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8,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78,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-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orage T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orage t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oating ro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,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1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ble wall chemical containment pi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9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9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ves and eyewash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inless steel valves and eyewash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7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e and al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e and leakage alarm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orage fac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ghting protection storage fac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Equipmen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3,969,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Installe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7,862,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Capital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87,862,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0" y="0"/>
          <a:ext cx="9144000" cy="6324120"/>
        </p:xfrm>
        <a:graphic>
          <a:graphicData uri="http://schemas.openxmlformats.org/drawingml/2006/table">
            <a:tbl>
              <a:tblPr/>
              <a:tblGrid>
                <a:gridCol w="4629240"/>
                <a:gridCol w="451476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erating and Utilities Economic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ble 1.2: Cost of plant operation and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nual Co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stocks (raw material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ke-up feed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6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aly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155,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3,019,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ling water, 95°F,50p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7,769,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eam generation,327.8°F,100p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,211,6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9,481,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erations (labor-rela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labor w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7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salar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8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0" y="6324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6324480"/>
            <a:ext cx="899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perty insurance is 0.5% of annual plant cos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perty tax is 2% of annual plant cos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9143640" cy="6248160"/>
        </p:xfrm>
        <a:graphic>
          <a:graphicData uri="http://schemas.openxmlformats.org/drawingml/2006/table">
            <a:tbl>
              <a:tblPr/>
              <a:tblGrid>
                <a:gridCol w="4629600"/>
                <a:gridCol w="4514040"/>
              </a:tblGrid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side legal assist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coun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labor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7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31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surance &amp; benefits including va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90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xes (fed/state, workman’s comp 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8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nt maintenance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9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80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erty Taxes and Insu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253,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 of manufa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7,885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preciation (annual plant lif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0,834,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Methanol Product 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28,245,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828800" y="0"/>
          <a:ext cx="7315200" cy="6818400"/>
        </p:xfrm>
        <a:graphic>
          <a:graphicData uri="http://schemas.openxmlformats.org/drawingml/2006/table">
            <a:tbl>
              <a:tblPr/>
              <a:tblGrid>
                <a:gridCol w="3817800"/>
                <a:gridCol w="3497400"/>
              </a:tblGrid>
              <a:tr h="762480">
                <a:tc gridSpan="2">
                  <a:txBody>
                    <a:bodyPr lIns="31680" rIns="316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egorized annu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 1.3: factor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31680" rIns="316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ypical factor in American engineering 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eam, 100ps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8.14/1000l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l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12/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76/KW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ste 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.00/1000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1f20"/>
                          </a:solidFill>
                          <a:latin typeface="Calibri"/>
                          <a:ea typeface="Calibri"/>
                        </a:rPr>
                        <a:t>KATALCO 51-8  catalyst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46.00/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95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ons (labor-rela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952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ng la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20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952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er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 of operating la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r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 of operating la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078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% of cap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preci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ight-line depre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 US federal tax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gas by-product cred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.50/million BTU HH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748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gher alcohols by-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12/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PROFILE FOR INVESTORS</a:t>
            </a:r>
            <a:endParaRPr b="0" lang="en-US" sz="28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905120" y="609480"/>
          <a:ext cx="7086600" cy="60706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6070680">
                <a:tc>
                  <a:txBody>
                    <a:bodyPr lIns="42120" rIns="42120" tIns="5760" bIns="0" anchor="ctr">
                      <a:noAutofit/>
                    </a:bodyPr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V = 446,936,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R = 3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tection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Long term methanol selling contract with large creditworthy U.S Corpor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iance with Delta group. Long term syngas supply contract with fixed price to meet contractual undertaking between Windy City Methanol and Del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pendent evaluation by more than one geological consulting firm to ensure plant construction area is safe for production of flammable produ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re specialized management personnel with extraordinary methanol marketing experien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ve business interruption insurance to pay losses incurred due to plant failure or natural disas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sure all critical permits issued prior to plant construc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pendent analysis for the technology being used in plant desig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tain high-quality legal advice.  Have devised workable dispute settlement mechanism in plac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Solutions to questions from previous presentation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7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1.Cost of syng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2.Assumptio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Mostly removed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Reactor has more reactio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Conversion/selectivity set for the reactio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3.Distillation pressure and drop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Pressure adjusted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Two colum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by product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4.Costs for equipmen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5.Depriciation cos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Agenda 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ign Ba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F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w Shee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ergy Sinks/Loa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sting/Siz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Improvement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more reactors to simulate quen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 membrane separators to purge off excess gas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water tubes to cool rea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sensitivity analysis to find out whether turbo expanders/heat exchangers are cost effec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 Methanol pur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Questions??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2286000"/>
            <a:ext cx="9150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Design Basi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 the syngas provided by group Delta to synthesize Methan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 located in Chicago because of MS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300TPD syngas to produce 1600 TPD Methanol at a purity of 99.2 wt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hemistry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 CO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17694 Btu/lbmol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: 0.1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 + 2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39037 Btu/lbmol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: 0.4 of C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CO +4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H +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147033 Btu/lbmol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: 0.01 of C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4CO +8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H + 3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319862 Btu/lbmo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 : 0.005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Process Flow Diagram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0392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372280" cy="3095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380988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exchanger: 45000 lb/hr inlet at 70F outlet 1090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: Pressure 1200 psi Temperature 518 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o expander: Pressure drop of 452 ps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anol Prod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029200" cy="3949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09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anol purif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46483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267080"/>
            <a:ext cx="822960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:  648psi, 118ºF, separates 97% of  CO, 100%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75%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ve: Reduces pressure from 648psi to 31ps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1: Separates ~100% CO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2: Separates water, methanol, and higher alcohols to obtain 99.2% pure methan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o Expander 2: Pressure drop of 16.3ps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8896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Flow Shee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87000" y="4061880"/>
            <a:ext cx="580716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entury Schoolbook"/>
            </a:endParaRPr>
          </a:p>
        </p:txBody>
      </p:sp>
      <p:pic>
        <p:nvPicPr>
          <p:cNvPr id="217" name="Picture 2" descr="C:\Users\pd\Desktop\Untitled.jpg"/>
          <p:cNvPicPr/>
          <p:nvPr/>
        </p:nvPicPr>
        <p:blipFill>
          <a:blip r:embed="rId1"/>
          <a:stretch/>
        </p:blipFill>
        <p:spPr>
          <a:xfrm>
            <a:off x="76320" y="1752480"/>
            <a:ext cx="8915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0:16:00Z</dcterms:created>
  <dc:creator>Linda</dc:creator>
  <dc:description/>
  <dc:language>en-US</dc:language>
  <cp:lastModifiedBy>Nisant</cp:lastModifiedBy>
  <dcterms:modified xsi:type="dcterms:W3CDTF">2011-03-21T19:50:48Z</dcterms:modified>
  <cp:revision>77</cp:revision>
  <dc:subject/>
  <dc:title>Slide 1</dc:title>
</cp:coreProperties>
</file>